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4B96E-195A-486B-847E-411124BF08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4DFD-701B-427A-82A5-10820A5C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19E7-249A-41B2-9626-34552AC7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EB8F-BEB1-4249-BE15-0764F3FF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12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668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12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668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98A-63AD-4EB1-B0D1-8690280D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BF6B-8BDD-406A-8FC1-289F3266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DA73-8260-4D7A-9C86-6CB62731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1674-31D4-4679-A5F2-C8209CC2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BB2C-F798-41BF-9EAB-CA3349E0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3152-E343-43DB-A07E-DC56719B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3588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4799-0436-47FE-A087-17B3D7B8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1FC9-6948-4B23-B97F-66F1B42E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A8A-D6D4-4FC3-BAD2-D19F81E8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9327-7DA5-4B04-86B4-2601A87A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8AE2-0F5C-4738-BE36-C2C445EA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591B-D667-4063-92A6-44FD986D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9F55-BA60-4C42-83EF-9E65D154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712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668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712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668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4054-3DBF-4F21-8FCB-571E4C0E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4FF-DD78-4A07-80A2-8CE64C7D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FD82-887A-4AAB-980A-E10CA05F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3AE5-DF7F-42CD-A602-0E6A39D9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3588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BC8-3EF3-4DA2-A4B3-AAF93730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232A-C789-419F-9630-71A73B11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7C3E-CDC3-4F76-992F-9730E41D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AD77-78F9-420D-BFA1-2E9B08C9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0840" indent="-30816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978D8-F59B-40E1-A836-60FE94FB697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7376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01CD4-B771-4BD7-BDE7-969B0A2CB14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0840" indent="-30816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1908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653760"/>
            <a:ext cx="678168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us of Embedded Linux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00000" y="30686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685800"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ux Symposiu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a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ve Rep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56400" cy="1838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692360" y="5589720"/>
            <a:ext cx="624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 Bird - CELF A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ursday Tal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ynamic Deb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lined in 2.6.2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o u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Use prdebug() instead of printk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urn on CONFIG_DYNAMIC_DEBU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at debugfs control file to see list of debug poi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cho &lt;expr&gt; into control file to turn on/off debug poi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xamine kernel log buff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ursday Talks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utot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ice automated test framework from Goog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Web control interfa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erver to control job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lients on targets to perform job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otest client is in pyth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mmunication with client is via SS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andles failures, logging, reporting, et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droid BOF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ing forward to this tomor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serv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ttendance is down (~30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mportant community members still attend (maybe fewer than previous yea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hristoph Hellw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on Ma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ames Bottoml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im Ri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ssions are g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view of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lks so f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ations about ev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of Confer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ew Venue in Montre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treal is a “big city” – busier that Otta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venue is nice (not a dunge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uesday - Tracing mini-Summ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nathan Corbet Key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t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IN keynote by Keith Berg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T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ing Mini-summi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esenta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lementing an LTTng trace viewer in Eclipse – Francois Choin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ing user-space tracepointing to GDB – Marc Khouz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port on Ftrace – Frederick Wiesbeck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ystemTap – Frank Eig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story and status of Linux tracing – Christoph Hellw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nel: Requirements for Linux Tracing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st of the above, and 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ing Issues Rais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ed to unify kernel infrastructure for tracepoint definition (and clock sources and ring buffer implementations) between LTTng and Ftr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ssues with tracers in embe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lock source are often cru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ny systems don’t handle host-target well (if at al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mbedded platform support lags X8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mory/Performance/Storage constra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duction platforms have limited I/O channels to extract trac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Jonathan Corbet Keyno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tus of Linux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t slowing down, despite prediction of Andrew Mor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ast year - 54000 change se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atus of lots of individual fea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S - BTRFS, SquashFS, NIL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SD’s soon capable of 100K ops/seco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tworking – mostly done but big iptables churn co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T – maybe last bits will get merg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curity – TOMOYO, Integrity measur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dnesday Tal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grammatic kernel crash dump analysis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edora B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Streamer on TI OMAP35x ch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ndboxer – lightweight application isolation for M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mbined tracing of kernel and user-space with LTT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nction Duration tracing with Ftrace (by 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ursday Keyno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eeping Open Source Ope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eith Bergelt of Open Invention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Very interesting talk about fighting patent trol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re are some well-known tro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icrosoft starting to get aggress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omTom lawsu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IN helped lessen the dam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ursday Keynote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IN has several strategies to defend open sour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-to-patent = system to present prior art to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ensive publications = codify prior art before patents are gr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tent portfolio, including active paten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mportant No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rosoft is “prowling” Japan for more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sure your company calls OIN before doing any deals with Micro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bergetl@openinventionnetwork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-347-721-8511 (24 ho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Tim Bird</cp:lastModifiedBy>
  <dcterms:modified xsi:type="dcterms:W3CDTF">2009-07-17T00:02:20Z</dcterms:modified>
  <cp:revision>18</cp:revision>
  <dc:subject/>
  <dc:title>スライド 1</dc:title>
</cp:coreProperties>
</file>